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4AC-FA55-4B60-9379-267671BA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917-413C-49DC-B2AA-7ED2A406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92F-98DB-4D00-869E-AC659230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401-60AB-4FBE-866E-88D331A2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9186-E96B-4DCB-AE00-A1690E3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53D-0442-4910-97A5-D1FB440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3EF-EB01-4A98-8705-3ED3CDA7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548-25C7-417D-9B78-BCF078A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C06-528A-4B45-9DDF-D57CDD0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009-9E02-479F-9C99-0BD3CA57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A65-A546-4023-9910-75EFA4B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A52F-72FB-4C85-B291-9542EF9A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A82D-E9DB-4517-9292-002DCD12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G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BRY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PET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Land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his is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any famous Landmark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indsor Cas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drians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mbridge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White Cliffs of D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lackpool T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Palace of West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wer Of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London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 Pauls Cathed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mark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1809720" cy="271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" y="3933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don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2952720" cy="2295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68360" y="3645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ckingham Pa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651640" y="1484280"/>
            <a:ext cx="2514600" cy="1887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96000" y="335772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ondon is the Capital City of Londo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t holds many of englands most famous landmarks. Its also englands most famous tourrist attrac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The weather in England is usually really cold and rainy. It snows quite often and can get as low as 1 degree. Most people in england are found wearing jumpers or jackets and long pa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000000"/>
                </a:solidFill>
                <a:latin typeface="Arial"/>
              </a:rPr>
              <a:t>Englands food is mainly just the same as australia’s except the often don’t have BBQ’s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you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na and j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04:34:08Z</dcterms:created>
  <dc:creator>Admin</dc:creator>
  <dc:description/>
  <dc:language>en-US</dc:language>
  <cp:lastModifiedBy>Admin</cp:lastModifiedBy>
  <dcterms:modified xsi:type="dcterms:W3CDTF">2009-05-26T05:07:27Z</dcterms:modified>
  <cp:revision>3</cp:revision>
  <dc:subject/>
  <dc:title>ENGLAND </dc:title>
</cp:coreProperties>
</file>